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23.wmf" ContentType="image/x-wmf"/>
  <Override PartName="/ppt/media/image6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7.wmf" ContentType="image/x-wmf"/>
  <Override PartName="/ppt/media/image16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61C-CE88-4ABE-B355-39063818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1C41-7D8E-410A-BAE7-2E2E39AF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791-FC4D-44AB-9742-52CB9F8C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B089-5A40-45F6-8616-49A5E27B2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FD8-4A8D-450C-9C62-A14B97D9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E21-5024-40E0-9572-3D5304E7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AD5-D451-4FA7-9052-2A77DCDC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B93-9E1D-4EBC-A38F-6221E328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3333-BA2D-4EA9-AC92-D63AFC51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5319-5E0B-44F0-8917-3479EBFF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90A-4FA4-4963-BFE2-143AF5F3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DAC-C301-46DB-BF62-861A1626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B0D1-4E05-4458-924D-AFBC5E42F970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www.gsmarena.com/sagem_vs1-pictures-1181.php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tatus Project JERR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59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mply Jerry UE Worksho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Vodafone – BenQ Mobile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F-Group, Düsseldorf Tower 21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/ WK, 22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Kick-off workshop of the complete Jerry Project Team from Feb 13th to 17th in Beijing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project team is established with clear responsibilit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feasibility of all requested features is analyz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 detailed project plan is establish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ll software workpackages are assign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Agile software development approach is agreed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(to be communicated with VF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125360"/>
            <a:ext cx="83059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tack-up and PCB floorplan in line with new Jerry-ID recently being signed-off by VF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... with minor adaptations on ID to improve erg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87560"/>
            <a:ext cx="8305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First working PCB’s scheduled for Mid 3/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3839760"/>
            <a:ext cx="830592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Fine tuning of mechanical design is running. Design freeze is scheduled for 28 February. 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Release of 100% data for hardtools on 25 April. 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335240"/>
            <a:ext cx="830592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s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osition for lanyard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eypad back lights – blue vs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-touch finish on battery cover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=&gt;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potential color mismatch with middl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jewel-sticker on soft-touch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hrome plating of groove in function keypa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47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177560"/>
            <a:ext cx="83059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uccessfully changed from EGRadio / Apoxi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to SGlite / Native platfom in Jan ’06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resolving resources conflicts with Goldfinch (VF listed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and securing time-to-market for Jerr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00000"/>
            <a:ext cx="83059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Agile software development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ach software feature is separated into </a:t>
            </a:r>
            <a:r>
              <a:rPr b="0" i="1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handy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work packages of at most 4 weeks dur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/ work packages are collected in a list of prioritized ”backlog” items. This list is owned by the product mana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whole software is developed in several successive steps (”sprints”), in each of which a defined and agreed set of backlog items from the top of the list is handled. This approach is ”test driven” (TDD) and will provide a testable intermediate phone software at the end of each spr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intermediate software result is checked and released by the custom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03360" y="1320840"/>
            <a:ext cx="5713560" cy="486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74520" y="825480"/>
            <a:ext cx="58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clustered and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>
            <a:off x="-394560" y="825480"/>
            <a:ext cx="9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 separated into workpackages of max 4 wks 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7720" y="1521000"/>
            <a:ext cx="7898040" cy="39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3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Jerry – High Level Features (ID, Softwar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ject team setup   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tatus (ID, HW, S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gile SW development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657600"/>
            <a:ext cx="83059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CD compliance – Smart Simply 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xt Input Review List -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410080"/>
            <a:ext cx="830592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8440" y="9144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. Ba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94440" y="21337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. Kleb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520" y="38098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48080" y="54388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43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49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18560" y="175248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31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1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8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Market Positio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00080"/>
            <a:ext cx="830592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Jerry is targeting the </a:t>
            </a:r>
            <a:r>
              <a:rPr b="0" lang="en-US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program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1811160"/>
            <a:ext cx="316224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520" y="284328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1 : Sagem VS1 and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Vofafone Simply Sagem VS3"/>
          <p:cNvPicPr/>
          <p:nvPr/>
        </p:nvPicPr>
        <p:blipFill>
          <a:blip r:embed="rId2"/>
          <a:stretch/>
        </p:blipFill>
        <p:spPr>
          <a:xfrm>
            <a:off x="6689880" y="3760920"/>
            <a:ext cx="415800" cy="1203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agem VS1&#10;MORE PICTUR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2960" y="2449440"/>
            <a:ext cx="822240" cy="110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agem VS2"/>
          <p:cNvPicPr/>
          <p:nvPr/>
        </p:nvPicPr>
        <p:blipFill>
          <a:blip r:embed="rId5"/>
          <a:stretch/>
        </p:blipFill>
        <p:spPr>
          <a:xfrm>
            <a:off x="7497720" y="2403360"/>
            <a:ext cx="514440" cy="120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669000" y="5175360"/>
            <a:ext cx="49212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520" y="4113360"/>
            <a:ext cx="87789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2: Sagem V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520" y="527544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3: BenQ Jerry (VS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ppealing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6240" y="1397160"/>
            <a:ext cx="7391520" cy="479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60" y="80964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esign Status 20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by dedicated hardkey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Special Buttons"/>
          <p:cNvPicPr/>
          <p:nvPr/>
        </p:nvPicPr>
        <p:blipFill>
          <a:blip r:embed="rId1"/>
          <a:stretch/>
        </p:blipFill>
        <p:spPr>
          <a:xfrm>
            <a:off x="760320" y="1195560"/>
            <a:ext cx="203220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096920" y="1546200"/>
          <a:ext cx="5075280" cy="3268800"/>
        </p:xfrm>
        <a:graphic>
          <a:graphicData uri="http://schemas.openxmlformats.org/drawingml/2006/table">
            <a:tbl>
              <a:tblPr/>
              <a:tblGrid>
                <a:gridCol w="1052640"/>
                <a:gridCol w="4022640"/>
              </a:tblGrid>
              <a:tr h="326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Idle Screen / Event Space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Contacts Space”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Menu Spac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" name=""/>
          <p:cNvGrpSpPr/>
          <p:nvPr/>
        </p:nvGrpSpPr>
        <p:grpSpPr>
          <a:xfrm>
            <a:off x="723960" y="2154240"/>
            <a:ext cx="1561680" cy="2239920"/>
            <a:chOff x="723960" y="2154240"/>
            <a:chExt cx="1561680" cy="223992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52400" y="2154240"/>
              <a:ext cx="96516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3960" y="3652920"/>
              <a:ext cx="96048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995400" y="2538360"/>
              <a:ext cx="12492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221840" y="3328920"/>
              <a:ext cx="1063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1450800" y="3749760"/>
              <a:ext cx="7272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607000" y="3967200"/>
            <a:ext cx="1996920" cy="2133360"/>
            <a:chOff x="5607000" y="3967200"/>
            <a:chExt cx="1996920" cy="213336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619600" y="3967200"/>
              <a:ext cx="571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337080" y="4556160"/>
              <a:ext cx="1266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olume hi/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07000" y="4402080"/>
              <a:ext cx="652320" cy="55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5083200"/>
            <a:ext cx="2844720" cy="552600"/>
            <a:chOff x="1295280" y="5083200"/>
            <a:chExt cx="2844720" cy="552600"/>
          </a:xfrm>
        </p:grpSpPr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1295280" y="5083200"/>
              <a:ext cx="133848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720160" y="5214960"/>
              <a:ext cx="141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ower on/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514840" y="1339920"/>
            <a:ext cx="2815920" cy="2247480"/>
            <a:chOff x="5514840" y="1339920"/>
            <a:chExt cx="2815920" cy="2247480"/>
          </a:xfrm>
        </p:grpSpPr>
        <p:sp>
          <p:nvSpPr>
            <p:cNvPr id="84" name=""/>
            <p:cNvSpPr/>
            <p:nvPr/>
          </p:nvSpPr>
          <p:spPr>
            <a:xfrm>
              <a:off x="6182640" y="3151080"/>
              <a:ext cx="144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ck / Un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514840" y="1339920"/>
              <a:ext cx="2815920" cy="2195280"/>
              <a:chOff x="5514840" y="1339920"/>
              <a:chExt cx="2815920" cy="2195280"/>
            </a:xfrm>
          </p:grpSpPr>
          <p:pic>
            <p:nvPicPr>
              <p:cNvPr id="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1339920"/>
                <a:ext cx="644400" cy="21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127560" y="1993680"/>
                <a:ext cx="22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inger Profile Set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514840" y="1839600"/>
                <a:ext cx="652320" cy="5569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5551200" y="3030480"/>
              <a:ext cx="652320" cy="556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User Interface"/>
          <p:cNvPicPr/>
          <p:nvPr/>
        </p:nvPicPr>
        <p:blipFill>
          <a:blip r:embed="rId1"/>
          <a:stretch/>
        </p:blipFill>
        <p:spPr>
          <a:xfrm>
            <a:off x="603360" y="1206360"/>
            <a:ext cx="2095560" cy="44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Vodafone Simply Sagem VS2 - displays your number"/>
          <p:cNvPicPr/>
          <p:nvPr/>
        </p:nvPicPr>
        <p:blipFill>
          <a:blip r:embed="rId2"/>
          <a:srcRect l="40579" t="17765" r="18954" b="48320"/>
          <a:stretch/>
        </p:blipFill>
        <p:spPr>
          <a:xfrm>
            <a:off x="593640" y="2158920"/>
            <a:ext cx="1144800" cy="141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CALL"/>
          <p:cNvPicPr/>
          <p:nvPr/>
        </p:nvPicPr>
        <p:blipFill>
          <a:blip r:embed="rId3"/>
          <a:stretch/>
        </p:blipFill>
        <p:spPr>
          <a:xfrm>
            <a:off x="20574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dd contact"/>
          <p:cNvPicPr/>
          <p:nvPr/>
        </p:nvPicPr>
        <p:blipFill>
          <a:blip r:embed="rId4"/>
          <a:stretch/>
        </p:blipFill>
        <p:spPr>
          <a:xfrm>
            <a:off x="48006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Log"/>
          <p:cNvPicPr/>
          <p:nvPr/>
        </p:nvPicPr>
        <p:blipFill>
          <a:blip r:embed="rId5"/>
          <a:stretch/>
        </p:blipFill>
        <p:spPr>
          <a:xfrm>
            <a:off x="740736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dd reminder"/>
          <p:cNvPicPr/>
          <p:nvPr/>
        </p:nvPicPr>
        <p:blipFill>
          <a:blip r:embed="rId6"/>
          <a:stretch/>
        </p:blipFill>
        <p:spPr>
          <a:xfrm>
            <a:off x="6126120" y="2158920"/>
            <a:ext cx="1171440" cy="141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ave numbers"/>
          <p:cNvPicPr/>
          <p:nvPr/>
        </p:nvPicPr>
        <p:blipFill>
          <a:blip r:embed="rId7"/>
          <a:stretch/>
        </p:blipFill>
        <p:spPr>
          <a:xfrm>
            <a:off x="3475080" y="215892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692360" y="4456080"/>
            <a:ext cx="3519360" cy="157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user interface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Yang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22T11:27:53Z</dcterms:modified>
  <cp:revision>173</cp:revision>
  <dc:subject/>
  <dc:title>PowerPoint</dc:title>
</cp:coreProperties>
</file>